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jpeg" ContentType="image/jpeg"/>
  <Override PartName="/ppt/media/image16.jpeg" ContentType="image/jpe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D5A681-2FB6-4332-A977-C64EBCBB7C3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93B9E6-64E8-49BD-83A1-26FC08E1120A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F11500-57A5-42BC-8F8F-50B0FC2E703D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03A2-0CE9-4C43-A6A8-6A5CC7D6C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641F-185B-488C-94CF-9C246F296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5254-214C-4715-A877-B1B342E69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D34F-106B-4DAA-AC19-E67311254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5F2F5-F57B-4096-B431-C83428D25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6DAAF-E4BD-434C-8CC4-0DD5BDF41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1CB41-6317-462D-8159-009C93B89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79474-3221-46D1-8B21-55E2B4246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3859A-E5B9-4F98-98CA-CDB11E670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99713-AF45-46E3-A3AB-737260546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21C59-2A0B-4AF4-8996-267CC1AB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DAB0-A125-49A3-84F7-72880BB6C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3A780-9C66-4731-9918-856DA90E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534FA-A7A2-480A-AC00-87A689B5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BBB50-BF07-4B8F-A485-5BC1C76BD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BCCF7-622C-45B1-8C30-DEC79FCC7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9705E-46ED-48A4-A613-169F8CC64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81029-E0C9-47DC-868B-DCFEC8ACE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7844D-AD26-492E-9F91-00E3830B5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1DD11-22AD-41A7-AFEB-A775B2364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20D44-FC44-4D34-A443-98210F940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8976C-FDB3-48BC-B201-67B182E31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8A02-B287-4A96-948A-AFF79B4C4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6C112-160C-4CE9-84C8-F6828FCB1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8682C-46BB-4491-9B66-C0CDACDF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4362D-5FC8-45CC-AD43-44531C134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FA434-D4A5-413D-B6A4-B66537F2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137FA-EFC6-4F4F-BA50-6E46AA176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21F4B-10F5-425B-A5E9-063553F30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3832C-F73F-4D00-A778-8519ACCF7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64BD7-24CB-4CA2-9EDF-B1AA45253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6A323-64E3-4737-B136-B18670F26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317E9-FA18-47A9-AB9A-8804831A9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3EAA-BE28-43E7-8996-9A6D76197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30BB9-3C7D-4C41-BCCB-8D845BF8D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7AFD7-D347-49CA-A908-9F84050F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EF46F-D095-4429-9B3B-D6B55F95A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96E80-3914-4C8F-BDBD-4E9E9BAC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82FCF-3183-4DBE-ACE9-C893F091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73781-B50A-485C-BEA7-75CA4081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FA2C9-142F-44C5-B28A-308F5FBAD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3CD59-3CD1-4ECD-BEEC-29D1E4D5A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8D95A-267E-4034-B285-4448DC7F6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364A-A3A1-4055-9DC5-3260B314F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0CE3-8475-4C48-A213-79CB30BBE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CCAE-4320-4514-BF76-CF155E2E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B8B0-229C-4B9E-8EBF-88B4E8D8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A422-AD73-4913-A299-1F6EED1F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900" spc="-1" strike="noStrike">
                <a:solidFill>
                  <a:srgbClr val="898989"/>
                </a:solidFill>
                <a:latin typeface="Trebuchet MS"/>
              </a:rPr>
              <a:t>F.Raffy-octobre 2010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900" spc="-1" strike="noStrike">
                <a:solidFill>
                  <a:srgbClr val="5fcbe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FA0783-0B90-4D8F-AF79-6A1113198CD9}" type="slidenum">
              <a:rPr b="0" lang="fr-FR" sz="900" spc="-1" strike="noStrike">
                <a:solidFill>
                  <a:srgbClr val="5fcbe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5fcbe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900" spc="-1" strike="noStrike">
                <a:solidFill>
                  <a:srgbClr val="898989"/>
                </a:solidFill>
                <a:latin typeface="Trebuchet MS"/>
              </a:rPr>
              <a:t>F.Raffy-octobre 2010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900" spc="-1" strike="noStrike">
                <a:solidFill>
                  <a:srgbClr val="5fcbe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33F71D-7D8B-48C2-A8FA-9A43F81E241A}" type="slidenum">
              <a:rPr b="0" lang="fr-FR" sz="900" spc="-1" strike="noStrike">
                <a:solidFill>
                  <a:srgbClr val="5fcbe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900" spc="-1" strike="noStrike">
                <a:solidFill>
                  <a:srgbClr val="898989"/>
                </a:solidFill>
                <a:latin typeface="Trebuchet MS"/>
              </a:rPr>
              <a:t>F.Raffy-octobre 2010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900" spc="-1" strike="noStrike">
                <a:solidFill>
                  <a:srgbClr val="5fcbe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22E96C-C50D-46AB-8905-CACEAFF9B907}" type="slidenum">
              <a:rPr b="0" lang="fr-FR" sz="900" spc="-1" strike="noStrike">
                <a:solidFill>
                  <a:srgbClr val="5fcbe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900" spc="-1" strike="noStrike">
                <a:solidFill>
                  <a:srgbClr val="898989"/>
                </a:solidFill>
                <a:latin typeface="Trebuchet MS"/>
              </a:rPr>
              <a:t>F.Raffy-octobre 2010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900" spc="-1" strike="noStrike">
                <a:solidFill>
                  <a:srgbClr val="5fcbe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235812-12A8-40CD-9B43-CFA74F8D627C}" type="slidenum">
              <a:rPr b="0" lang="fr-FR" sz="900" spc="-1" strike="noStrike">
                <a:solidFill>
                  <a:srgbClr val="5fcbe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8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8.png"/><Relationship Id="rId3" Type="http://schemas.openxmlformats.org/officeDocument/2006/relationships/hyperlink" Target="https://www.santepubliquefrance.fr/les-actualites/2017/mise-en-place-des-postes-sanitaires-mobiles-pediatriques" TargetMode="External"/><Relationship Id="rId4" Type="http://schemas.openxmlformats.org/officeDocument/2006/relationships/hyperlink" Target="https://solidarites-sante.gouv.fr/fichiers/bo/2013/13-12/ste_20130012_0000_0068.pdf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603360" y="907920"/>
            <a:ext cx="7683480" cy="1312920"/>
          </a:xfrm>
          <a:prstGeom prst="rect">
            <a:avLst/>
          </a:prstGeom>
          <a:noFill/>
          <a:ln w="9360">
            <a:solidFill>
              <a:srgbClr val="3fcd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000" spc="-1" strike="noStrike">
                <a:solidFill>
                  <a:srgbClr val="2c3c43"/>
                </a:solidFill>
                <a:latin typeface="Trebuchet MS"/>
              </a:rPr>
              <a:t>Postes Sanitaires Mobiles </a:t>
            </a:r>
            <a:br>
              <a:rPr sz="4000"/>
            </a:br>
            <a:r>
              <a:rPr b="1" lang="fr-FR" sz="4000" spc="-1" strike="noStrike">
                <a:solidFill>
                  <a:srgbClr val="2c3c43"/>
                </a:solidFill>
                <a:latin typeface="Trebuchet MS"/>
              </a:rPr>
              <a:t>I et II et Pédiatrique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871560" y="4818240"/>
            <a:ext cx="63468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2023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Espace réservé du numéro de diapositive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0099E7-0D38-40B4-B476-72E2550021D1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2" name="Image 5" descr=""/>
          <p:cNvPicPr/>
          <p:nvPr/>
        </p:nvPicPr>
        <p:blipFill>
          <a:blip r:embed="rId1"/>
          <a:stretch/>
        </p:blipFill>
        <p:spPr>
          <a:xfrm>
            <a:off x="7790040" y="5257800"/>
            <a:ext cx="1009440" cy="86040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1"/>
          <p:cNvSpPr/>
          <p:nvPr/>
        </p:nvSpPr>
        <p:spPr>
          <a:xfrm>
            <a:off x="900000" y="5640480"/>
            <a:ext cx="626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Dr Françoise Raffy - Pharmacien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4" name="Image 3" descr=""/>
          <p:cNvPicPr/>
          <p:nvPr/>
        </p:nvPicPr>
        <p:blipFill>
          <a:blip r:embed="rId2"/>
          <a:stretch/>
        </p:blipFill>
        <p:spPr>
          <a:xfrm>
            <a:off x="2400480" y="2368440"/>
            <a:ext cx="3263760" cy="24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597528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 </a:t>
            </a:r>
            <a:r>
              <a:rPr b="0" lang="fr-FR" sz="4000" spc="-1" strike="noStrike">
                <a:solidFill>
                  <a:srgbClr val="5fcbef"/>
                </a:solidFill>
                <a:latin typeface="Trebuchet MS"/>
              </a:rPr>
              <a:t>Les malles antidotes</a:t>
            </a:r>
            <a:endParaRPr b="0" lang="en-US" sz="40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250560" y="1909800"/>
            <a:ext cx="583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400" spc="-1" strike="noStrike">
                <a:solidFill>
                  <a:srgbClr val="404040"/>
                </a:solidFill>
                <a:latin typeface="Trebuchet MS"/>
              </a:rPr>
              <a:t>Antidotes Risque chimique </a:t>
            </a: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: CONTRATHION,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  </a:t>
            </a: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CYANOKIT, SUCCICAPTAL, ATROPINE 40mg,</a:t>
            </a:r>
            <a:br>
              <a:rPr sz="1400"/>
            </a:b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  CLONAZEPAM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400" spc="-1" strike="noStrike">
                <a:solidFill>
                  <a:srgbClr val="404040"/>
                </a:solidFill>
                <a:latin typeface="Trebuchet MS"/>
              </a:rPr>
              <a:t>Antidotes Risques nucléaire et radiologiques </a:t>
            </a: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: iodure de potassium, RADIOGARDASE, Ca-DTPA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400" spc="-1" strike="noStrike">
                <a:solidFill>
                  <a:srgbClr val="404040"/>
                </a:solidFill>
                <a:latin typeface="Trebuchet MS"/>
              </a:rPr>
              <a:t>Antibiotique, </a:t>
            </a:r>
            <a:r>
              <a:rPr b="0" lang="fr-FR" sz="1400" spc="-1" strike="noStrike">
                <a:solidFill>
                  <a:srgbClr val="000000"/>
                </a:solidFill>
                <a:latin typeface="Trebuchet MS"/>
              </a:rPr>
              <a:t>Peste charbon tularémie</a:t>
            </a:r>
            <a:r>
              <a:rPr b="1" lang="fr-FR" sz="1400" spc="-1" strike="noStrike">
                <a:solidFill>
                  <a:srgbClr val="404040"/>
                </a:solidFill>
                <a:latin typeface="Trebuchet MS"/>
              </a:rPr>
              <a:t>: </a:t>
            </a: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ciprofloxacine 500mg cp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Traitement de </a:t>
            </a:r>
            <a:r>
              <a:rPr b="0" lang="fr-FR" sz="1400" spc="-1" strike="noStrike" u="sng">
                <a:solidFill>
                  <a:srgbClr val="404040"/>
                </a:solidFill>
                <a:uFillTx/>
                <a:latin typeface="Trebuchet MS"/>
              </a:rPr>
              <a:t>15 victimes </a:t>
            </a: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par malle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PSM I : 2 malles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PSM II : 4 malles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6" name="Espace réservé du numéro de diapositive 2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876D69-DC46-48E8-A7BA-C05985B41694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7" name="Picture 6" descr="C:\Users\passemad\Desktop\ACTIVITE\Stocks_Urgences\PSM\test_nouvelle_dotation_2016\PSM A JOUR\Antidotes\ANT-1.JPG"/>
          <p:cNvPicPr/>
          <p:nvPr/>
        </p:nvPicPr>
        <p:blipFill>
          <a:blip r:embed="rId1"/>
          <a:stretch/>
        </p:blipFill>
        <p:spPr>
          <a:xfrm>
            <a:off x="5535720" y="3790800"/>
            <a:ext cx="3443040" cy="2506680"/>
          </a:xfrm>
          <a:prstGeom prst="rect">
            <a:avLst/>
          </a:prstGeom>
          <a:ln w="0">
            <a:noFill/>
          </a:ln>
        </p:spPr>
      </p:pic>
      <p:pic>
        <p:nvPicPr>
          <p:cNvPr id="268" name="Image 1" descr=""/>
          <p:cNvPicPr/>
          <p:nvPr/>
        </p:nvPicPr>
        <p:blipFill>
          <a:blip r:embed="rId2"/>
          <a:stretch/>
        </p:blipFill>
        <p:spPr>
          <a:xfrm>
            <a:off x="4851360" y="6224760"/>
            <a:ext cx="615960" cy="566640"/>
          </a:xfrm>
          <a:prstGeom prst="rect">
            <a:avLst/>
          </a:prstGeom>
          <a:ln w="0">
            <a:noFill/>
          </a:ln>
        </p:spPr>
      </p:pic>
      <p:pic>
        <p:nvPicPr>
          <p:cNvPr id="269" name="Image 2" descr=""/>
          <p:cNvPicPr/>
          <p:nvPr/>
        </p:nvPicPr>
        <p:blipFill>
          <a:blip r:embed="rId3"/>
          <a:stretch/>
        </p:blipFill>
        <p:spPr>
          <a:xfrm>
            <a:off x="5648400" y="1359000"/>
            <a:ext cx="3214440" cy="24130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5" descr="N:\PSM\PSM1\malles antidotes PSM\CIMG2093.JPG"/>
          <p:cNvPicPr/>
          <p:nvPr/>
        </p:nvPicPr>
        <p:blipFill>
          <a:blip r:embed="rId4"/>
          <a:stretch/>
        </p:blipFill>
        <p:spPr>
          <a:xfrm>
            <a:off x="5648400" y="3808440"/>
            <a:ext cx="339228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80640" y="254160"/>
            <a:ext cx="8163000" cy="76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Points forts des PSM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72" name="Espace réservé du numéro de diapositive 4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B00635-23F7-4BC2-B94A-8C85FE819C3A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468360" y="2060640"/>
            <a:ext cx="8207280" cy="40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Verdan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Finalité 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80000"/>
              <a:buFont typeface="Verdan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rise en charge de victimes sur le terrai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80000"/>
              <a:buFont typeface="Verdan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enfort hospitalie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Verdan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Standardisation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80000"/>
              <a:buFont typeface="Verdan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mposition limitée et identique pour tous les PSM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80000"/>
              <a:buFont typeface="Verdan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Le PSM est connu de tous les intervenants de l’aide médicale urgente, quel que soit son département d’implanta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Verdan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trôl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80000"/>
              <a:buFont typeface="Verdan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nspection A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80000"/>
              <a:buFont typeface="Verdan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igess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4" name="Image 5" descr=""/>
          <p:cNvPicPr/>
          <p:nvPr/>
        </p:nvPicPr>
        <p:blipFill>
          <a:blip r:embed="rId1"/>
          <a:stretch/>
        </p:blipFill>
        <p:spPr>
          <a:xfrm>
            <a:off x="8080200" y="189000"/>
            <a:ext cx="615960" cy="56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Gestion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761760" y="1904760"/>
            <a:ext cx="8381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210 références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Médicaments, Solutés massifs, Gaz médicaux,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Dispositifs médicaux, Instruments chirurgicaux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Traitements d’urgence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Pérennité de la dotation : rotation et réinjection dans le circuit hospitalier avant péremption, changements en fonction des marchés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Gestion Informatisée : application web SIGeSSE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Retrait de lots :pharmacovigilance, matériovigilance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Collaboration étroite SAMU et Pharmacie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</a:rPr>
              <a:t>Un outil informatique de gestion partagé de l’information : SIGeSSE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</a:rPr>
              <a:t>ES     ESR     ARS/Z     SPF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</a:rPr>
              <a:t>Suivi de la composition, des péremptions et des n° de lots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Espace réservé du numéro de diapositive 6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DBB7B5-8753-4FF7-A574-13216431C627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8" name="Image 5" descr=""/>
          <p:cNvPicPr/>
          <p:nvPr/>
        </p:nvPicPr>
        <p:blipFill>
          <a:blip r:embed="rId1"/>
          <a:stretch/>
        </p:blipFill>
        <p:spPr>
          <a:xfrm>
            <a:off x="8080200" y="189000"/>
            <a:ext cx="615960" cy="5680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6" descr=""/>
          <p:cNvPicPr/>
          <p:nvPr/>
        </p:nvPicPr>
        <p:blipFill>
          <a:blip r:embed="rId2"/>
          <a:stretch/>
        </p:blipFill>
        <p:spPr>
          <a:xfrm>
            <a:off x="2016000" y="5516640"/>
            <a:ext cx="179640" cy="1476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"/>
          <p:cNvPicPr/>
          <p:nvPr/>
        </p:nvPicPr>
        <p:blipFill>
          <a:blip r:embed="rId3"/>
          <a:stretch/>
        </p:blipFill>
        <p:spPr>
          <a:xfrm>
            <a:off x="2871720" y="5524560"/>
            <a:ext cx="179280" cy="1461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6" descr=""/>
          <p:cNvPicPr/>
          <p:nvPr/>
        </p:nvPicPr>
        <p:blipFill>
          <a:blip r:embed="rId4"/>
          <a:stretch/>
        </p:blipFill>
        <p:spPr>
          <a:xfrm>
            <a:off x="4035600" y="5573880"/>
            <a:ext cx="179280" cy="14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71200" y="853560"/>
            <a:ext cx="816300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 </a:t>
            </a: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SIGeSSE</a:t>
            </a:r>
            <a:r>
              <a:rPr b="1" lang="fr-FR" sz="3600" spc="-1" strike="noStrike">
                <a:solidFill>
                  <a:srgbClr val="5fcbef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Système Informatisé de Gestion des Situations Sanitaires Exceptionnelle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Outil de gestion des stocks tactiques des établissements de santé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Base de données en ligne avec une interface graphique permettant les modifications, l’import et l’export de donnée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4" name="Espace réservé du numéro de diapositive 4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12FDF1-5291-4C8A-B7A1-003D8233769D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5" name="Image 5" descr=""/>
          <p:cNvPicPr/>
          <p:nvPr/>
        </p:nvPicPr>
        <p:blipFill>
          <a:blip r:embed="rId1"/>
          <a:stretch/>
        </p:blipFill>
        <p:spPr>
          <a:xfrm>
            <a:off x="8080200" y="189000"/>
            <a:ext cx="615960" cy="56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6560" y="90756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Gestion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762120" y="1905120"/>
            <a:ext cx="816768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404040"/>
                </a:solidFill>
                <a:latin typeface="Trebuchet MS"/>
              </a:rPr>
              <a:t>Mise en conformité (début 2017) de la dotation après réactualisation par la commission national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404040"/>
                </a:solidFill>
                <a:latin typeface="Trebuchet MS"/>
              </a:rPr>
              <a:t>Suivi des évolutions des marchés pour les références du PSM: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Suppressions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Equivalents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Incidence sur le stockage en malle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" name="Espace réservé du numéro de diapositive 6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462C85-B422-4CC2-BA51-9C5461C39366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9" name="Image 5" descr=""/>
          <p:cNvPicPr/>
          <p:nvPr/>
        </p:nvPicPr>
        <p:blipFill>
          <a:blip r:embed="rId1"/>
          <a:stretch/>
        </p:blipFill>
        <p:spPr>
          <a:xfrm>
            <a:off x="8080200" y="189000"/>
            <a:ext cx="615960" cy="56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Gestion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761760" y="1904760"/>
            <a:ext cx="8381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404040"/>
                </a:solidFill>
                <a:latin typeface="Trebuchet MS"/>
              </a:rPr>
              <a:t>Inventaire complet annuel hors rotations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404040"/>
                </a:solidFill>
                <a:latin typeface="Trebuchet MS"/>
              </a:rPr>
              <a:t>Contrôle réalisé conjointement avec le SAMU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404040"/>
                </a:solidFill>
                <a:latin typeface="Trebuchet MS"/>
              </a:rPr>
              <a:t>Traçabilité logiciel SIGeSS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404040"/>
                </a:solidFill>
                <a:latin typeface="Trebuchet MS"/>
              </a:rPr>
              <a:t>Actions correctrices si nécessaire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Espace réservé du numéro de diapositive 6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A176D0-DB30-41B5-85BE-9CBEA50BD3ED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3" name="Image 5" descr=""/>
          <p:cNvPicPr/>
          <p:nvPr/>
        </p:nvPicPr>
        <p:blipFill>
          <a:blip r:embed="rId1"/>
          <a:stretch/>
        </p:blipFill>
        <p:spPr>
          <a:xfrm>
            <a:off x="8080200" y="189000"/>
            <a:ext cx="615960" cy="56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71200" y="853560"/>
            <a:ext cx="816300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Objectifs de SIGeSS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8360" y="1904760"/>
            <a:ext cx="8555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</a:rPr>
              <a:t>Partager entre SPF, les ARS, les ARSZ les ES la gestion des moyens de réponse aux situations sanitaires exceptionnelles déployés dans les ES au sein des zones de défense.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</a:rPr>
              <a:t>Obtenir aux niveaux national et zonal une visibilité sur la disponibilité des stocks tactiques et leur lieu de stockage,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</a:rPr>
              <a:t>Réaliser des mouvements de stocks et des inventaires dans les établissements (PSM et équipements), suivre la maintenance, gérer les kits de produits…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</a:rPr>
              <a:t>Gérer les équipements et produits supplémentaires aux moyens tactiques mais intégrés à l’initiative de chaque établissement ou de l’ARS pour améliorer la réponse en cas de crise,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</a:rPr>
              <a:t>Permettre des requêtes nécessaires aux reportings aux niveaux établissement, ARS, ARSZ, Santé publique France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</a:rPr>
              <a:t>Fournir aux utilisateurs un outil sécurisé et convivial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Espace réservé du numéro de diapositive 4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35DA00-E6D7-4408-9B81-FF498D14DBF0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7" name="Image 1" descr=""/>
          <p:cNvPicPr/>
          <p:nvPr/>
        </p:nvPicPr>
        <p:blipFill>
          <a:blip r:embed="rId1"/>
          <a:stretch/>
        </p:blipFill>
        <p:spPr>
          <a:xfrm>
            <a:off x="7451640" y="671400"/>
            <a:ext cx="615960" cy="5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26560" y="698400"/>
            <a:ext cx="8163000" cy="14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Fonctionnalités principales</a:t>
            </a:r>
            <a:br>
              <a:rPr sz="3600"/>
            </a:b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99" name="Espace réservé du numéro de diapositive 4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B7C7A1-CDD7-41AD-B800-5780E39F355C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826920" y="2205000"/>
            <a:ext cx="7561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ccès aux référentiels nationaux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ableau de bord des moyen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Gestion des moyens et lots tactiqu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Gestion des moyens et lots locaux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lertes et suivi des péremptions et maintenanc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1" name="Image 1" descr=""/>
          <p:cNvPicPr/>
          <p:nvPr/>
        </p:nvPicPr>
        <p:blipFill>
          <a:blip r:embed="rId1"/>
          <a:stretch/>
        </p:blipFill>
        <p:spPr>
          <a:xfrm>
            <a:off x="7451640" y="638280"/>
            <a:ext cx="61596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90680" y="620280"/>
            <a:ext cx="8162640" cy="7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5fcbef"/>
                </a:solidFill>
                <a:latin typeface="Trebuchet MS"/>
              </a:rPr>
              <a:t>Tableau de bord des moyens</a:t>
            </a:r>
            <a:endParaRPr b="0" lang="en-US" sz="40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" name="Espace réservé du numéro de diapositive 4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9D9267-2F7E-4A36-AC92-AA456A622FDB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5" name="Picture 6" descr=""/>
          <p:cNvPicPr/>
          <p:nvPr/>
        </p:nvPicPr>
        <p:blipFill>
          <a:blip r:embed="rId1"/>
          <a:srcRect l="0" t="9861" r="0" b="4456"/>
          <a:stretch/>
        </p:blipFill>
        <p:spPr>
          <a:xfrm>
            <a:off x="0" y="1557360"/>
            <a:ext cx="9144000" cy="4896000"/>
          </a:xfrm>
          <a:prstGeom prst="rect">
            <a:avLst/>
          </a:prstGeom>
          <a:ln w="0">
            <a:noFill/>
          </a:ln>
        </p:spPr>
      </p:pic>
      <p:pic>
        <p:nvPicPr>
          <p:cNvPr id="306" name="Image 1" descr=""/>
          <p:cNvPicPr/>
          <p:nvPr/>
        </p:nvPicPr>
        <p:blipFill>
          <a:blip r:embed="rId2"/>
          <a:stretch/>
        </p:blipFill>
        <p:spPr>
          <a:xfrm>
            <a:off x="7451640" y="690480"/>
            <a:ext cx="615960" cy="5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26560" y="188640"/>
            <a:ext cx="8163000" cy="132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5fcbef"/>
                </a:solidFill>
                <a:latin typeface="Trebuchet MS"/>
              </a:rPr>
              <a:t>Gestion des moyens et des </a:t>
            </a:r>
            <a:r>
              <a:rPr b="0" lang="fr-FR" sz="4000" spc="-1" strike="noStrike">
                <a:solidFill>
                  <a:srgbClr val="236292"/>
                </a:solidFill>
                <a:latin typeface="Trebuchet MS"/>
              </a:rPr>
              <a:t>lots</a:t>
            </a:r>
            <a:endParaRPr b="0" lang="en-US" sz="40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308" name="Picture 2" descr=""/>
          <p:cNvPicPr/>
          <p:nvPr/>
        </p:nvPicPr>
        <p:blipFill>
          <a:blip r:embed="rId1"/>
          <a:srcRect l="0" t="8481" r="0" b="3960"/>
          <a:stretch/>
        </p:blipFill>
        <p:spPr>
          <a:xfrm>
            <a:off x="0" y="1484280"/>
            <a:ext cx="9144000" cy="4921200"/>
          </a:xfrm>
          <a:prstGeom prst="rect">
            <a:avLst/>
          </a:prstGeom>
          <a:ln w="0">
            <a:noFill/>
          </a:ln>
        </p:spPr>
      </p:pic>
      <p:sp>
        <p:nvSpPr>
          <p:cNvPr id="309" name="Espace réservé du numéro de diapositive 4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636A7A-0E85-4096-8290-EF1CC49D818D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0" name="Image 1" descr=""/>
          <p:cNvPicPr/>
          <p:nvPr/>
        </p:nvPicPr>
        <p:blipFill>
          <a:blip r:embed="rId2"/>
          <a:stretch/>
        </p:blipFill>
        <p:spPr>
          <a:xfrm>
            <a:off x="7740720" y="839880"/>
            <a:ext cx="61596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69600" y="380880"/>
            <a:ext cx="816300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Stocks des Situations </a:t>
            </a:r>
            <a:br>
              <a:rPr sz="3600"/>
            </a:b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Sanitaires Exceptionnelles 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761760" y="1904760"/>
            <a:ext cx="8381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700" spc="-1" strike="noStrike">
                <a:solidFill>
                  <a:srgbClr val="404040"/>
                </a:solidFill>
                <a:latin typeface="Trebuchet MS"/>
              </a:rPr>
              <a:t>Stocks Stratégiques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700" spc="-1" strike="noStrike">
                <a:solidFill>
                  <a:srgbClr val="404040"/>
                </a:solidFill>
                <a:latin typeface="Trebuchet MS"/>
              </a:rPr>
              <a:t>Stocks Etat gérés et détenus par Santé Publique France (SPF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700" spc="-1" strike="noStrike">
                <a:solidFill>
                  <a:srgbClr val="404040"/>
                </a:solidFill>
                <a:latin typeface="Trebuchet MS"/>
              </a:rPr>
              <a:t>Stocks de renfort ou deuxième intention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700" spc="-1" strike="noStrike">
                <a:solidFill>
                  <a:srgbClr val="404040"/>
                </a:solidFill>
                <a:latin typeface="Trebuchet MS"/>
              </a:rPr>
              <a:t>Plans de distribution exceptionnelle (circ. Intermin. 13/08/2013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300" spc="-1" strike="noStrike">
                <a:solidFill>
                  <a:srgbClr val="404040"/>
                </a:solidFill>
                <a:latin typeface="Trebuchet MS"/>
              </a:rPr>
              <a:t>Ex : comprimés iodure de potassium 65 mg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700" spc="-1" strike="noStrike">
                <a:solidFill>
                  <a:srgbClr val="404040"/>
                </a:solidFill>
                <a:latin typeface="Trebuchet MS"/>
              </a:rPr>
              <a:t>Stocks Tactiques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700" spc="-1" strike="noStrike">
                <a:solidFill>
                  <a:srgbClr val="404040"/>
                </a:solidFill>
                <a:latin typeface="Trebuchet MS"/>
              </a:rPr>
              <a:t>Stocks des ES siège de SAMU ou de SMUR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700" spc="-1" strike="noStrike">
                <a:solidFill>
                  <a:srgbClr val="404040"/>
                </a:solidFill>
                <a:latin typeface="Trebuchet MS"/>
              </a:rPr>
              <a:t>Stocks de première intention déployés par les ES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300" spc="-1" strike="noStrike">
                <a:solidFill>
                  <a:srgbClr val="404040"/>
                </a:solidFill>
                <a:latin typeface="Trebuchet MS"/>
              </a:rPr>
              <a:t>Ex : Poste Sanitaire Mobile (PSM)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</a:rPr>
              <a:t>Composition définie au niveau national (commission moyens)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500" spc="-1" strike="noStrike">
                <a:solidFill>
                  <a:srgbClr val="404040"/>
                </a:solidFill>
                <a:latin typeface="Trebuchet MS"/>
              </a:rPr>
              <a:t>Stocks ANTIDOTES D’URGENCE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7" name="Espace réservé du numéro de diapositive 6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5FB1DC-B43F-474C-91D4-9A99CCC8F87A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Image 5" descr=""/>
          <p:cNvPicPr/>
          <p:nvPr/>
        </p:nvPicPr>
        <p:blipFill>
          <a:blip r:embed="rId1"/>
          <a:stretch/>
        </p:blipFill>
        <p:spPr>
          <a:xfrm>
            <a:off x="8080200" y="189000"/>
            <a:ext cx="615960" cy="568080"/>
          </a:xfrm>
          <a:prstGeom prst="rect">
            <a:avLst/>
          </a:prstGeom>
          <a:ln w="0">
            <a:noFill/>
          </a:ln>
        </p:spPr>
      </p:pic>
      <p:pic>
        <p:nvPicPr>
          <p:cNvPr id="229" name="Image 1" descr=""/>
          <p:cNvPicPr/>
          <p:nvPr/>
        </p:nvPicPr>
        <p:blipFill>
          <a:blip r:embed="rId2"/>
          <a:stretch/>
        </p:blipFill>
        <p:spPr>
          <a:xfrm>
            <a:off x="6237360" y="3716280"/>
            <a:ext cx="214308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MERCI de votre attention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312" name="Espace réservé du contenu 5" descr=""/>
          <p:cNvPicPr/>
          <p:nvPr/>
        </p:nvPicPr>
        <p:blipFill>
          <a:blip r:embed="rId1"/>
          <a:stretch/>
        </p:blipFill>
        <p:spPr>
          <a:xfrm>
            <a:off x="6289560" y="2492280"/>
            <a:ext cx="2322720" cy="3881520"/>
          </a:xfrm>
          <a:prstGeom prst="rect">
            <a:avLst/>
          </a:prstGeom>
          <a:ln w="0">
            <a:noFill/>
          </a:ln>
        </p:spPr>
      </p:pic>
      <p:sp>
        <p:nvSpPr>
          <p:cNvPr id="313" name="Espace réservé du numéro de diapositive 4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36397C-C87A-4870-A264-A06E9DB974A8}" type="slidenum">
              <a:rPr b="0" lang="fr-FR" sz="900" spc="-1" strike="noStrike">
                <a:solidFill>
                  <a:srgbClr val="5fcbe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4" name="Image 6" descr=""/>
          <p:cNvPicPr/>
          <p:nvPr/>
        </p:nvPicPr>
        <p:blipFill>
          <a:blip r:embed="rId2"/>
          <a:stretch/>
        </p:blipFill>
        <p:spPr>
          <a:xfrm>
            <a:off x="7451640" y="476280"/>
            <a:ext cx="615960" cy="56664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1"/>
          <p:cNvSpPr/>
          <p:nvPr/>
        </p:nvSpPr>
        <p:spPr>
          <a:xfrm>
            <a:off x="468360" y="1484280"/>
            <a:ext cx="59767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 u="sng">
                <a:solidFill>
                  <a:srgbClr val="3fcde7"/>
                </a:solidFill>
                <a:uFillTx/>
                <a:latin typeface="Trebuchet MS"/>
                <a:hlinkClick r:id="rId3"/>
              </a:rPr>
              <a:t>https://www.santepubliquefrance.fr/les-actualites/2017/mise-en-place-des-postes-sanitaires-mobiles-pediatrique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 u="sng">
                <a:solidFill>
                  <a:srgbClr val="3fcde7"/>
                </a:solidFill>
                <a:uFillTx/>
                <a:latin typeface="Trebuchet MS"/>
                <a:hlinkClick r:id="rId4"/>
              </a:rPr>
              <a:t>https://solidarites-sante.gouv.fr/fichiers/bo/2013/13-12/ste_20130012_0000_0068.pdf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rebuchet MS"/>
              </a:rPr>
              <a:t>https://solidarites-sante.gouv.fr/systeme-de-sante-et-medico-social/securite-sanitaire/article/les-moyens-sanitaires-mobilisable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55280" y="620280"/>
            <a:ext cx="816300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Organisation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761760" y="1904760"/>
            <a:ext cx="838188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700" spc="-1" strike="noStrike">
                <a:solidFill>
                  <a:srgbClr val="404040"/>
                </a:solidFill>
                <a:latin typeface="Trebuchet MS"/>
              </a:rPr>
              <a:t>Ministère –Santé Publique France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700" spc="-1" strike="noStrike">
                <a:solidFill>
                  <a:srgbClr val="404040"/>
                </a:solidFill>
                <a:latin typeface="Trebuchet MS"/>
              </a:rPr>
              <a:t>Deux Niveaux :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839880" indent="-4478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</a:rPr>
              <a:t>PSM 1 - 25 blessés - 400 kg médic.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lvl="1" marL="839880" indent="-4478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</a:rPr>
              <a:t>PSM 2 - 500 blessés - 8 tonnes médic.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700" spc="-1" strike="noStrike">
                <a:solidFill>
                  <a:srgbClr val="404040"/>
                </a:solidFill>
                <a:latin typeface="Trebuchet MS"/>
              </a:rPr>
              <a:t>Répartition nationale (24 PSM 2 – 109 PSM1)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700" spc="-1" strike="noStrike">
                <a:solidFill>
                  <a:srgbClr val="404040"/>
                </a:solidFill>
                <a:latin typeface="Trebuchet MS"/>
              </a:rPr>
              <a:t>Plate-forme nationale projetable :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2" marL="1119960" indent="-22392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FR" sz="1000" spc="-1" strike="noStrike">
                <a:solidFill>
                  <a:srgbClr val="404040"/>
                </a:solidFill>
                <a:latin typeface="Trebuchet MS"/>
              </a:rPr>
              <a:t>Implantée sur le site du CHU Henri Mondor à Créteil, au sein du SAMU 94, hélistation répondant aux normes européennes et susceptible d’accueillir des hélicoptères gros porteurs, proximité avec les aéroports de la région parisienne.</a:t>
            </a:r>
            <a:endParaRPr b="0" lang="en-US" sz="1000" spc="-1" strike="noStrike">
              <a:solidFill>
                <a:srgbClr val="404040"/>
              </a:solidFill>
              <a:latin typeface="Trebuchet MS"/>
            </a:endParaRPr>
          </a:p>
          <a:p>
            <a:pPr lvl="2" marL="1119960" indent="-22392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FR" sz="1000" spc="-1" strike="noStrike">
                <a:solidFill>
                  <a:srgbClr val="404040"/>
                </a:solidFill>
                <a:latin typeface="Trebuchet MS"/>
              </a:rPr>
              <a:t>Les moyens de la plateforme nationale : PSM3</a:t>
            </a:r>
            <a:endParaRPr b="0" lang="en-US" sz="10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700" spc="-1" strike="noStrike">
                <a:solidFill>
                  <a:srgbClr val="404040"/>
                </a:solidFill>
                <a:latin typeface="Trebuchet MS"/>
              </a:rPr>
              <a:t>Localisation des PSM: CH avec SAMU ou SMUR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700" spc="-1" strike="noStrike">
                <a:solidFill>
                  <a:srgbClr val="404040"/>
                </a:solidFill>
                <a:latin typeface="Trebuchet MS"/>
              </a:rPr>
              <a:t>Zone Est :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839880" indent="-4478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400" spc="-1" strike="noStrike">
                <a:solidFill>
                  <a:srgbClr val="404040"/>
                </a:solidFill>
                <a:latin typeface="Trebuchet MS"/>
              </a:rPr>
              <a:t>4 PSM 2 : Besançon, Nancy, Reims et Strasbourg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1" marL="839880" indent="-4478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400" spc="-1" strike="noStrike">
                <a:solidFill>
                  <a:srgbClr val="404040"/>
                </a:solidFill>
                <a:latin typeface="Trebuchet MS"/>
              </a:rPr>
              <a:t>18 PSM ped (chaque siège de SAMU-SMUR: 1/ département)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1" marL="839880" indent="-4478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400" spc="-1" strike="noStrike">
                <a:solidFill>
                  <a:srgbClr val="404040"/>
                </a:solidFill>
                <a:latin typeface="Trebuchet MS"/>
              </a:rPr>
              <a:t>15 PSM 1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Espace réservé du numéro de diapositive 6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D6B496-B284-49A4-AEB5-BC23DCFE2ADB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3" name="Image 5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615960" cy="568080"/>
          </a:xfrm>
          <a:prstGeom prst="rect">
            <a:avLst/>
          </a:prstGeom>
          <a:ln w="0">
            <a:noFill/>
          </a:ln>
        </p:spPr>
      </p:pic>
      <p:pic>
        <p:nvPicPr>
          <p:cNvPr id="234" name="Image 1" descr=""/>
          <p:cNvPicPr/>
          <p:nvPr/>
        </p:nvPicPr>
        <p:blipFill>
          <a:blip r:embed="rId2"/>
          <a:stretch/>
        </p:blipFill>
        <p:spPr>
          <a:xfrm>
            <a:off x="4932360" y="189000"/>
            <a:ext cx="404964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Espace réservé du numéro de diapositive 2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1C8A77-7B4C-4E67-924C-74B93F4B1055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"/>
          <p:cNvPicPr/>
          <p:nvPr/>
        </p:nvPicPr>
        <p:blipFill>
          <a:blip r:embed="rId2"/>
          <a:stretch/>
        </p:blipFill>
        <p:spPr>
          <a:xfrm>
            <a:off x="3924360" y="234936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515520"/>
            <a:ext cx="63482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>
                <a:solidFill>
                  <a:srgbClr val="5fcbef"/>
                </a:solidFill>
                <a:latin typeface="Trebuchet MS"/>
              </a:rPr>
              <a:t>Localisation en Zone Es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9" name="Espace réservé du numéro de diapositive 3"/>
          <p:cNvSpPr/>
          <p:nvPr/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F09BD9-0120-425B-A600-09C7B9FE75C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0" name="Image 1" descr=""/>
          <p:cNvPicPr/>
          <p:nvPr/>
        </p:nvPicPr>
        <p:blipFill>
          <a:blip r:embed="rId1"/>
          <a:stretch/>
        </p:blipFill>
        <p:spPr>
          <a:xfrm>
            <a:off x="2340000" y="1330200"/>
            <a:ext cx="5400720" cy="5185080"/>
          </a:xfrm>
          <a:prstGeom prst="rect">
            <a:avLst/>
          </a:prstGeom>
          <a:ln w="0">
            <a:noFill/>
          </a:ln>
        </p:spPr>
      </p:pic>
      <p:pic>
        <p:nvPicPr>
          <p:cNvPr id="241" name="Image 2" descr=""/>
          <p:cNvPicPr/>
          <p:nvPr/>
        </p:nvPicPr>
        <p:blipFill>
          <a:blip r:embed="rId2"/>
          <a:stretch/>
        </p:blipFill>
        <p:spPr>
          <a:xfrm>
            <a:off x="7956720" y="609480"/>
            <a:ext cx="615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71200" y="853560"/>
            <a:ext cx="816300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Doctrine d’emploi 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4360" y="1904760"/>
            <a:ext cx="833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72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404040"/>
                </a:solidFill>
                <a:latin typeface="Trebuchet MS"/>
              </a:rPr>
              <a:t>Positionné dans les établissement de santé sièges de SAMU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404040"/>
                </a:solidFill>
                <a:latin typeface="Trebuchet MS"/>
              </a:rPr>
              <a:t>Gestion des PSM sous la responsabilité du SAMU et de la Pharmaci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404040"/>
                </a:solidFill>
                <a:latin typeface="Trebuchet MS"/>
              </a:rPr>
              <a:t>Mobilisable H24 par le médecin responsable du SAMU sur un évènement local ou par l’ARS/Z et ou SPF pour un renfort sur la zone ou sur le territoire nationa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Espace réservé du numéro de diapositive 6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51EB72-A8E4-44B1-B86B-7CA735B70929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5" name="Image 5" descr=""/>
          <p:cNvPicPr/>
          <p:nvPr/>
        </p:nvPicPr>
        <p:blipFill>
          <a:blip r:embed="rId1"/>
          <a:stretch/>
        </p:blipFill>
        <p:spPr>
          <a:xfrm>
            <a:off x="8080200" y="189000"/>
            <a:ext cx="615960" cy="56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11280" y="639720"/>
            <a:ext cx="669600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PSM 2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58400" y="1091880"/>
            <a:ext cx="8070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Matériel médical 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4 lots polyvalents identifiés A, B, C, 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11 malles, 25 blessés graves par lo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2 lots principaux identifiés 1 et 2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56 malles, 200 blessés graves par lo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Equipements logistiques 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Remorque, tente, groupe électrogène, brancard, etc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La totalité du </a:t>
            </a:r>
            <a:r>
              <a:rPr b="1" lang="fr-FR" sz="1800" spc="-1" strike="noStrike">
                <a:solidFill>
                  <a:srgbClr val="404040"/>
                </a:solidFill>
                <a:latin typeface="Trebuchet MS"/>
              </a:rPr>
              <a:t>PSM2</a:t>
            </a: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 permet la prise en charge de </a:t>
            </a:r>
            <a:r>
              <a:rPr b="1" lang="fr-FR" sz="1800" spc="-1" strike="noStrike">
                <a:solidFill>
                  <a:srgbClr val="404040"/>
                </a:solidFill>
                <a:latin typeface="Trebuchet MS"/>
              </a:rPr>
              <a:t>500 victimes dont 100 UA</a:t>
            </a: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 pendant 24h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Intégration des éléments relatif au damage control, Note d’information de novembre 2016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PSM I =&gt; équivalent de 1 lot polyvalent du PSM II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114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Espace réservé du numéro de diapositive 3"/>
          <p:cNvSpPr/>
          <p:nvPr/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77A746-41DA-46D3-8743-6017EB38BD6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9" name="Image 5" descr=""/>
          <p:cNvPicPr/>
          <p:nvPr/>
        </p:nvPicPr>
        <p:blipFill>
          <a:blip r:embed="rId1"/>
          <a:stretch/>
        </p:blipFill>
        <p:spPr>
          <a:xfrm>
            <a:off x="7596360" y="227160"/>
            <a:ext cx="936360" cy="787320"/>
          </a:xfrm>
          <a:prstGeom prst="rect">
            <a:avLst/>
          </a:prstGeom>
          <a:ln w="0">
            <a:noFill/>
          </a:ln>
        </p:spPr>
      </p:pic>
      <p:pic>
        <p:nvPicPr>
          <p:cNvPr id="250" name="Image 4" descr=""/>
          <p:cNvPicPr/>
          <p:nvPr/>
        </p:nvPicPr>
        <p:blipFill>
          <a:blip r:embed="rId2"/>
          <a:stretch/>
        </p:blipFill>
        <p:spPr>
          <a:xfrm>
            <a:off x="6211800" y="1195560"/>
            <a:ext cx="2760840" cy="20714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IMGP2297"/>
          <p:cNvPicPr/>
          <p:nvPr/>
        </p:nvPicPr>
        <p:blipFill>
          <a:blip r:embed="rId3"/>
          <a:stretch/>
        </p:blipFill>
        <p:spPr>
          <a:xfrm>
            <a:off x="6981840" y="5445000"/>
            <a:ext cx="1992240" cy="12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Mobilisation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01600" y="1915920"/>
            <a:ext cx="4751280" cy="37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Conception modulaire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Malles formatées, standardisées, empilables et palettisables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Un lot polyvalent sur remorque : départ H24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Transport terrestre ou héliporté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Espace réservé du numéro de diapositive 6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238AEC-8563-431E-8988-2A4F52742790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5" name="Image 5" descr=""/>
          <p:cNvPicPr/>
          <p:nvPr/>
        </p:nvPicPr>
        <p:blipFill>
          <a:blip r:embed="rId1"/>
          <a:stretch/>
        </p:blipFill>
        <p:spPr>
          <a:xfrm>
            <a:off x="8080200" y="189000"/>
            <a:ext cx="615960" cy="5680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R:\PSM2\COURS\20170529_110604.jpg"/>
          <p:cNvPicPr/>
          <p:nvPr/>
        </p:nvPicPr>
        <p:blipFill>
          <a:blip r:embed="rId2"/>
          <a:stretch/>
        </p:blipFill>
        <p:spPr>
          <a:xfrm>
            <a:off x="4952880" y="1557360"/>
            <a:ext cx="3857760" cy="4869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LOGO"/>
          <p:cNvPicPr/>
          <p:nvPr/>
        </p:nvPicPr>
        <p:blipFill>
          <a:blip r:embed="rId3"/>
          <a:stretch/>
        </p:blipFill>
        <p:spPr>
          <a:xfrm>
            <a:off x="7808760" y="981000"/>
            <a:ext cx="887400" cy="763560"/>
          </a:xfrm>
          <a:prstGeom prst="rect">
            <a:avLst/>
          </a:prstGeom>
          <a:ln w="0">
            <a:noFill/>
          </a:ln>
        </p:spPr>
      </p:pic>
      <p:pic>
        <p:nvPicPr>
          <p:cNvPr id="258" name="Image 1" descr=""/>
          <p:cNvPicPr/>
          <p:nvPr/>
        </p:nvPicPr>
        <p:blipFill>
          <a:blip r:embed="rId4"/>
          <a:stretch/>
        </p:blipFill>
        <p:spPr>
          <a:xfrm>
            <a:off x="985680" y="4925880"/>
            <a:ext cx="250668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71200" y="853560"/>
            <a:ext cx="816300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PSM Pédiatriqu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99840" y="21333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404040"/>
                </a:solidFill>
                <a:latin typeface="Trebuchet MS"/>
              </a:rPr>
              <a:t>1 lot PSM pédiatrique </a:t>
            </a: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constitué de 11 malles de contenu polyvalent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Ne comporte pas de malle spécifique Antidotes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Le </a:t>
            </a:r>
            <a:r>
              <a:rPr b="1" lang="fr-FR" sz="2000" spc="-1" strike="noStrike">
                <a:solidFill>
                  <a:srgbClr val="404040"/>
                </a:solidFill>
                <a:latin typeface="Trebuchet MS"/>
              </a:rPr>
              <a:t>PSM pédiatrique</a:t>
            </a: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 permet la prise en charge de </a:t>
            </a:r>
            <a:r>
              <a:rPr b="1" lang="fr-FR" sz="2000" spc="-1" strike="noStrike">
                <a:solidFill>
                  <a:srgbClr val="404040"/>
                </a:solidFill>
                <a:latin typeface="Trebuchet MS"/>
              </a:rPr>
              <a:t>25 UA</a:t>
            </a: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 de moins de 10 ans (entre 10 et 30 kg) pendant 6h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Cette dotation intègre des produits du damage control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Départ en moins de 30 minutes vers le lieux de la catastrophe ou vers un hôpital confronté à une prise en charge de victimes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Espace réservé du numéro de diapositive 4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3A94CA-A381-4D9C-BA96-BA7E8D87977E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2" name="Image 5" descr=""/>
          <p:cNvPicPr/>
          <p:nvPr/>
        </p:nvPicPr>
        <p:blipFill>
          <a:blip r:embed="rId1"/>
          <a:stretch/>
        </p:blipFill>
        <p:spPr>
          <a:xfrm>
            <a:off x="8080200" y="189000"/>
            <a:ext cx="615960" cy="568080"/>
          </a:xfrm>
          <a:prstGeom prst="rect">
            <a:avLst/>
          </a:prstGeom>
          <a:ln w="0">
            <a:noFill/>
          </a:ln>
        </p:spPr>
      </p:pic>
      <p:pic>
        <p:nvPicPr>
          <p:cNvPr id="263" name="Image 1" descr=""/>
          <p:cNvPicPr/>
          <p:nvPr/>
        </p:nvPicPr>
        <p:blipFill>
          <a:blip r:embed="rId2"/>
          <a:stretch/>
        </p:blipFill>
        <p:spPr>
          <a:xfrm>
            <a:off x="5076720" y="258840"/>
            <a:ext cx="2470320" cy="18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5T08:12:10Z</dcterms:created>
  <dc:creator>F RAFFY</dc:creator>
  <dc:description/>
  <dc:language>en-US</dc:language>
  <cp:lastModifiedBy>Maeva Cabané-Chrestia</cp:lastModifiedBy>
  <dcterms:modified xsi:type="dcterms:W3CDTF">2023-09-25T15:29:54Z</dcterms:modified>
  <cp:revision>260</cp:revision>
  <dc:subject/>
  <dc:title>Présentation PowerPoint</dc:title>
</cp:coreProperties>
</file>